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E82C2-DEA9-41CC-8AB6-EC0E193FF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256D8-28D9-4E80-9A1E-A5ED067DC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2ED34-990B-41FE-B8B6-C5AF6F715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188E0-E142-4547-BA74-127F2060A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40F41-27EB-47E3-B48F-B4D9F29C7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6C135-C85E-48CE-9C11-3E957C0EA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B0600-20DD-4895-AF5E-A156BFF0E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9B103-95C0-4D21-A4E2-BF40B5E49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6FF4F-9234-4882-827F-CD5EBE57C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5B895-88B8-4E6B-B619-4D2B6593F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75D7C-BAD9-452F-B83C-3D6D35357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21411-E1EC-4285-8187-5E64DD4AC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B3303-A38E-417D-AB14-AF5B570D1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E24E9-4DB4-4AAD-AA73-9B1954837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63249-7063-436D-9C7A-9AD5C4918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BA5F3-5CFE-4376-A39F-40D1DC564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2D2F5-1E3A-4266-BE21-6401C7957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A8252-AD3D-499D-83B6-7C7316569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F6B4D-57C3-47B5-A9BB-257E1FB72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9C588-4DA7-4AF3-93ED-AB66FDCB3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FA759-4B13-41B5-BDFB-84E3C3FC3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08FFC-0314-47BE-B860-F3E3A993E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50F3-128B-49F9-8E4E-B49A43295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966A9-907F-4A33-BBB5-8FE15FB5E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1E63-C069-4125-ADE8-6CDD325B7850}"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75CA-CC31-48BB-83B5-6E90E00A9E02}" type="slidenum">
              <a:rPr b="0" lang="pt-BR"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5" name="Efeitos%20do%20alcool%202" descr=""/>
          <p:cNvPicPr/>
          <p:nvPr/>
        </p:nvPicPr>
        <p:blipFill>
          <a:blip r:embed="rId2"/>
          <a:stretch/>
        </p:blipFill>
        <p:spPr>
          <a:xfrm>
            <a:off x="0" y="-285840"/>
            <a:ext cx="9144000" cy="714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Dependência</a:t>
            </a:r>
            <a:endParaRPr b="0" lang="en-US" sz="3600" spc="-1" strike="noStrike">
              <a:solidFill>
                <a:srgbClr val="ccffff"/>
              </a:solidFill>
              <a:latin typeface="Tahoma"/>
            </a:endParaRPr>
          </a:p>
        </p:txBody>
      </p:sp>
      <p:sp>
        <p:nvSpPr>
          <p:cNvPr id="9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Outro problema com estas drogas é a facilidade com que elas levam à </a:t>
            </a:r>
            <a:r>
              <a:rPr b="0" lang="pt-BR" sz="2800" spc="-1" strike="noStrike">
                <a:solidFill>
                  <a:srgbClr val="00ff00"/>
                </a:solidFill>
                <a:latin typeface="Arial"/>
                <a:ea typeface="Arial"/>
              </a:rPr>
              <a:t>dependência psíquica</a:t>
            </a:r>
            <a:r>
              <a:rPr b="0" lang="pt-BR" sz="2800" spc="-1" strike="noStrike">
                <a:solidFill>
                  <a:srgbClr val="ffffff"/>
                </a:solidFill>
                <a:latin typeface="Arial"/>
                <a:ea typeface="Arial"/>
              </a:rPr>
              <a:t>, seguida de </a:t>
            </a:r>
            <a:r>
              <a:rPr b="0" lang="pt-BR" sz="2800" spc="-1" strike="noStrike">
                <a:solidFill>
                  <a:srgbClr val="00ff00"/>
                </a:solidFill>
                <a:latin typeface="Arial"/>
                <a:ea typeface="Arial"/>
              </a:rPr>
              <a:t>dependência física</a:t>
            </a:r>
            <a:r>
              <a:rPr b="0" lang="pt-BR" sz="2800" spc="-1" strike="noStrike">
                <a:solidFill>
                  <a:srgbClr val="ffffff"/>
                </a:solidFill>
                <a:latin typeface="Arial"/>
                <a:ea typeface="Arial"/>
              </a:rPr>
              <a:t>, ficando as mesmas como o centro da vida das vítimas, e quando estes dependentes, por qualquer motivo, param de tomar a droga, ocorre um violento e doloroso processo de abstinência, com náuseas, vômitos, diarréia, cãimbras musculares, cólicas intestinais, lacrimejamento, corrimento nasal, etc, que pode durar até 8-12 di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72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ahoma"/>
              </a:rPr>
              <a:t>Síndrome da abstinência</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Quando não está drogado, o viciado em narcóticos fica sem ânimo, apático e sem energia para as atividades corriqueiras. Com o tempo, manifesta-se deterioração física (emagrecimento, facilidade para adquirir infecções), psíquica (falta de memória, perda de raciocínio e de atenção) e social (falta de energia para o trabalho e outras atividades do dia-a-dia), bem como impotência sexu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72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ahoma"/>
              </a:rPr>
              <a:t>Narcóticos de origem natural</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rfina</a:t>
            </a:r>
            <a:endParaRPr b="0" lang="en-US" sz="4400" spc="-1" strike="noStrike">
              <a:solidFill>
                <a:srgbClr val="ffffff"/>
              </a:solidFill>
              <a:latin typeface="Tahoma"/>
            </a:endParaRPr>
          </a:p>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deín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ahoma"/>
              </a:rPr>
              <a:t>Morfina</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É o principal componente do ópio, com um grau de concentração que varia de 4 a 21%, e é uma das drogas mais eficazes que se conhece para o alívio da dor. </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É comercializada sob a forma de cristais brancos, tabletes hipodérmicos e preparados injetáveis. Seu uso lícito se restringe primordialmente a hospitais. A morfina é inodora, tem sabor amargo e se torna escura com o temp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Pode ser administrada por via subcutânea, intramuscular ou endovenosa, sendo que essa última via é usada com maior frequência pelos viciados. </a:t>
            </a: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O usuário desenvolve rapidamente a tolerância e a dependência psíquica seguida de física. </a:t>
            </a: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penas uma pequena parte da morfina obtida do ópio é utilizada para fins médicos. A maior parte é convertida em codeína (inibe o centro da tosse no SNC) e, secundariamente, em hidromorfona.</a:t>
            </a:r>
            <a:r>
              <a:rPr b="0" lang="pt-B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ahoma"/>
              </a:rPr>
              <a:t>Heroína</a:t>
            </a:r>
            <a:endParaRPr b="0" lang="en-US" sz="4400" spc="-1" strike="noStrike">
              <a:solidFill>
                <a:srgbClr val="ccffff"/>
              </a:solidFill>
              <a:latin typeface="Tahoma"/>
            </a:endParaRPr>
          </a:p>
        </p:txBody>
      </p:sp>
      <p:sp>
        <p:nvSpPr>
          <p:cNvPr id="1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 heroína pura é um pó branco, de sabor amargo, derivado da morfina. </a:t>
            </a:r>
            <a:endParaRPr b="0" lang="en-US" sz="2800" spc="-1" strike="noStrike">
              <a:solidFill>
                <a:srgbClr val="ffffff"/>
              </a:solidFill>
              <a:latin typeface="Tahoma"/>
            </a:endParaRPr>
          </a:p>
          <a:p>
            <a:pPr marL="335880" indent="-3358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Um “papelote” , no jargão do submundo da droga (uma unidade de dose única de heroína) pode pesar 100 g e conter apenas 5% de heroína. </a:t>
            </a:r>
            <a:endParaRPr b="0" lang="en-US" sz="2800" spc="-1" strike="noStrike">
              <a:solidFill>
                <a:srgbClr val="ffffff"/>
              </a:solidFill>
              <a:latin typeface="Tahoma"/>
            </a:endParaRPr>
          </a:p>
          <a:p>
            <a:pPr marL="335880" indent="-3358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Considerada uma das drogas mais devastadoras - usá-la três vezes é suficientes para causar dependência física, além de produzir tolerância acentuada em curto espaço de temp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Injetar o pó diluído na veia é o método preferido dos viciados, pois assim não se perde nenhum miligrama da substância. Mas também há quem prefira aspirá-la pelo nariz, como se faz com a cocaína ou fumá-la.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ea typeface="Arial"/>
              </a:rPr>
              <a:t>  </a:t>
            </a:r>
            <a:r>
              <a:rPr b="0" lang="pt-BR" sz="2800" spc="-1" strike="noStrike">
                <a:solidFill>
                  <a:srgbClr val="ffffff"/>
                </a:solidFill>
                <a:latin typeface="Arial"/>
                <a:ea typeface="Arial"/>
              </a:rPr>
              <a:t>A heroína, mais difícil de diluir em água do que drogas como a cocaína, costuma entupir as veias e provocar inflamação nos vasos sangüíneos. Injeções frequentes no mesmo lugar podem inutilizar as veias, obrigando o viciado a recorrer a quaisquer vasos sangüíneos disponíveis no corp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Arial"/>
              </a:rPr>
              <a:t>Injetada na corrente sangüínea, a droga leva menos de um minuto para chegar ao cérebro, onde dispara a produção de endorfinas, substâncias que regulam as sensações de prazer. </a:t>
            </a:r>
            <a:endParaRPr b="0" lang="en-US" sz="3200" spc="-1" strike="noStrike">
              <a:solidFill>
                <a:srgbClr val="ffffff"/>
              </a:solidFill>
              <a:latin typeface="Tahoma"/>
            </a:endParaRPr>
          </a:p>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Arial"/>
              </a:rPr>
              <a:t>Sob o efeito da droga, o sistema nervoso central é levado a trabalhar lentamente, gerando sensação de relaxamento no corpo. Em caso de “overdose” , o usuário morre de parada cardiorrespiratóri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720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índrome da abstinência</a:t>
            </a:r>
            <a:endParaRPr b="0" lang="en-US" sz="4400" spc="-1" strike="noStrike">
              <a:solidFill>
                <a:srgbClr val="ccffff"/>
              </a:solidFill>
              <a:latin typeface="Tahoma"/>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Com o uso contínuo de heroína, o organismo deixa de produzir espontaneamente endorfinas e, na ausência da droga, entra em colapso. É a chamada síndrome de abstinência, onde o mais suave estímulo físico é interpretado como dor, o estômago e o intestino entram em pane, causando dores abdominais, diarréia e vômito. O coração e a respiração ficam acelerados e acontecem convulsõ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Arial"/>
              </a:rPr>
              <a:t>A metadona, derivada da heroína, é uma droga de feito analgésico cuja principal função é controlar a dor em pacientes com cânce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Tahoma"/>
              </a:rPr>
              <a:t>Síndrome da abstinência</a:t>
            </a:r>
            <a:endParaRPr b="0" lang="en-US" sz="4400" spc="-1" strike="noStrike">
              <a:solidFill>
                <a:srgbClr val="cc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Queda de pressão, taquicardia, alterações físicas, sudorese, distúrbios gastrintestinais e, às vezes, até convulsõe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edativos e tranqüilizantes</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Times New Roman"/>
              </a:rPr>
              <a:t>Sedativo é o nome que se dá aos medicamentos capazes de diminuir a atividade de nosso cérebro, principalmente quando ele está num estado de excitação acima do normal. O termo sedativo é sinônimo de calmante ou seda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6680" y="380880"/>
            <a:ext cx="777240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Quando o sedativo é capaz de diminuir a dor ele recebe o nome de </a:t>
            </a:r>
            <a:r>
              <a:rPr b="0" lang="pt-BR" sz="2800" spc="-1" strike="noStrike">
                <a:solidFill>
                  <a:srgbClr val="ff00ff"/>
                </a:solidFill>
                <a:latin typeface="Arial"/>
                <a:ea typeface="Times New Roman"/>
              </a:rPr>
              <a:t>analgésico</a:t>
            </a:r>
            <a:r>
              <a:rPr b="0" lang="pt-BR" sz="2800" spc="-1" strike="noStrike">
                <a:solidFill>
                  <a:srgbClr val="ffffff"/>
                </a:solidFill>
                <a:latin typeface="Arial"/>
                <a:ea typeface="Times New Roman"/>
              </a:rPr>
              <a:t>. Já quando o sedativo é capaz de afastar a insônia, produzindo o sono, ele é chamado de </a:t>
            </a:r>
            <a:r>
              <a:rPr b="0" lang="pt-BR" sz="2800" spc="-1" strike="noStrike">
                <a:solidFill>
                  <a:srgbClr val="ff00ff"/>
                </a:solidFill>
                <a:latin typeface="Arial"/>
                <a:ea typeface="Times New Roman"/>
              </a:rPr>
              <a:t>hipnótico ou sonífero</a:t>
            </a:r>
            <a:r>
              <a:rPr b="0" lang="pt-BR" sz="2800" spc="-1" strike="noStrike">
                <a:solidFill>
                  <a:srgbClr val="ffffff"/>
                </a:solidFill>
                <a:latin typeface="Arial"/>
                <a:ea typeface="Times New Roman"/>
              </a:rPr>
              <a:t>. E quando um calmante tem o poder de atuar mais sobre estados exagerados de ansiedade, ele é denominado de </a:t>
            </a:r>
            <a:r>
              <a:rPr b="0" lang="pt-BR" sz="2800" spc="-1" strike="noStrike">
                <a:solidFill>
                  <a:srgbClr val="ff00ff"/>
                </a:solidFill>
                <a:latin typeface="Arial"/>
                <a:ea typeface="Times New Roman"/>
              </a:rPr>
              <a:t>ansiolítico</a:t>
            </a:r>
            <a:r>
              <a:rPr b="0" lang="pt-BR" sz="2800" spc="-1" strike="noStrike">
                <a:solidFill>
                  <a:srgbClr val="ffffff"/>
                </a:solidFill>
                <a:latin typeface="Arial"/>
                <a:ea typeface="Times New Roman"/>
              </a:rPr>
              <a:t>.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Finalmente, existem algumas dessas drogas que são capazes de acalmar o cérebro hiperexcitado dos epilépticos. São as drogas antiepilépticas, capazes de prevenir as convulsões destes doent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80520" y="456840"/>
            <a:ext cx="8458200" cy="6172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Os barbitúricos, são prescritos pelo médico como sedativos que induzem ao sono, por diminuir a atividade do cérebro. A sua duração limitada, aliada à dependência física e psíquica, levam o usuário a usar doses cada vez maiores para obtenção dos efeitos originais (tolerância).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Doses altas, entretanto, causam depressão, amnésia e confusão mental, podendo bloquear os centros nervosos responsáveis pela circulação e pela respiração, o que determina a morte. Essas mortes podem acontecer quando o consumidor esquece que tomou um comprimido e toma outro ou quando o barbitúrico é tomado com álcool, o que potencializa os seus efei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Times New Roman"/>
              </a:rPr>
              <a:t>Devido ao grande risco de tolerância e dependência psíquica e física, os barbitúricos são vendidos exclusivamente com receita médica. </a:t>
            </a:r>
            <a:endParaRPr b="0" lang="en-US" sz="3200" spc="-1" strike="noStrike">
              <a:solidFill>
                <a:srgbClr val="ffffff"/>
              </a:solidFill>
              <a:latin typeface="Tahoma"/>
            </a:endParaRPr>
          </a:p>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Times New Roman"/>
              </a:rPr>
              <a:t>Mesmo assim, há uma tendência entre os médicos em usá-los apenas como auxiliares no tratamento de doenças mentais e em casos de risco de enfarte ou outras doenças agravadas por tensões nervos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índrome da abstinência</a:t>
            </a:r>
            <a:endParaRPr b="0" lang="en-US" sz="4400" spc="-1" strike="noStrike">
              <a:solidFill>
                <a:srgbClr val="ccffff"/>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Vai desde insônia rebelde, irritação, agressividade, delírios, ansiedade, angústia, até convulsões generalizadas. A síndrome de abstinência requer obrigatoriamente tratamento médico e hospitalização, pois há perigo da pessoa vir a falecer.</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ea typeface="Arial"/>
              </a:rPr>
              <a:t>Qual a diferença entre bebida fermentada e destilada?</a:t>
            </a:r>
            <a:r>
              <a:rPr b="0" lang="en-US" sz="4400" spc="-1" strike="noStrike">
                <a:solidFill>
                  <a:srgbClr val="ccffff"/>
                </a:solidFill>
                <a:latin typeface="Tahoma"/>
              </a:rPr>
              <a:t> </a:t>
            </a:r>
            <a:endParaRPr b="0" lang="en-US" sz="4400" spc="-1" strike="noStrike">
              <a:solidFill>
                <a:srgbClr val="cc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 </a:t>
            </a:r>
            <a:r>
              <a:rPr b="0" lang="en-US" sz="2800" spc="-1" strike="noStrike">
                <a:solidFill>
                  <a:srgbClr val="ffffff"/>
                </a:solidFill>
                <a:latin typeface="Arial"/>
                <a:ea typeface="Arial"/>
              </a:rPr>
              <a:t>As bebidas destiladas têm teor alcoólico mais alto. Todas as bebidas passam pela fermentação, produzida principalmente por leveduras. Mas algumas, depois disso, passam ainda por um processo de destilação, ou seja, os álcoois e os ácidos orgânicos  - responsáveis pelo odor e pelo sabor  da bebida -  são transformados em vapor e depois, novamente em líquid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ssim, vão para outro recipiente, mas sem a água existente na bebida: como ela tem um ponto de ebulição mais alto, não evapora totalmente e o líquido resultante fica muito mais concentrado. É o caso do whisky, da cachaça e da vodca.  </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s bebidas fermentadas, como a cerveja e o vinho, têm, no máximo, 18% de álcool, enquanto as destiladas podem atingir até 70%.</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440" y="837720"/>
            <a:ext cx="8001000" cy="5715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8080"/>
                </a:solidFill>
                <a:latin typeface="Arial"/>
                <a:ea typeface="Arial"/>
              </a:rPr>
              <a:t> </a:t>
            </a:r>
            <a:r>
              <a:rPr b="0" i="1" lang="pt-BR" sz="2800" spc="-1" strike="noStrike">
                <a:solidFill>
                  <a:srgbClr val="ffffff"/>
                </a:solidFill>
                <a:latin typeface="Arial"/>
                <a:ea typeface="Arial"/>
              </a:rPr>
              <a:t>Por quê a bebida alcoólica causa ressaca?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r>
              <a:rPr b="0" lang="pt-BR" sz="2800" spc="-1" strike="noStrike">
                <a:solidFill>
                  <a:srgbClr val="ffffff"/>
                </a:solidFill>
                <a:latin typeface="Arial"/>
                <a:ea typeface="Arial"/>
              </a:rPr>
              <a:t>A ressaca é um tipo de intoxicação. Quando a quantidade de álcool ingerida é grande, o organismo se sente agredido e responde. Boca seca é um dos sintomas de ressaca, e acontece porque o álcool provoca contração nos vasos sangüíneos que, por sua vez, causa a sensação de ressecamento e a necessidade de ingerir água. Outros sintomas comuns são dor de cabeça e enjôo. Os sintomas só irão embora quando boa parte do álcool for eliminado do organ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rcóticos</a:t>
            </a:r>
            <a:endParaRPr b="0" lang="en-US" sz="4400" spc="-1" strike="noStrike">
              <a:solidFill>
                <a:srgbClr val="ccffff"/>
              </a:solidFill>
              <a:latin typeface="Tahoma"/>
            </a:endParaRPr>
          </a:p>
        </p:txBody>
      </p:sp>
      <p:sp>
        <p:nvSpPr>
          <p:cNvPr id="93" name="PlaceHolder 2"/>
          <p:cNvSpPr>
            <a:spLocks noGrp="1"/>
          </p:cNvSpPr>
          <p:nvPr>
            <p:ph/>
          </p:nvPr>
        </p:nvSpPr>
        <p:spPr>
          <a:xfrm>
            <a:off x="304920" y="1142640"/>
            <a:ext cx="853416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Referem-se ao ópio, seus derivados ópio ou a seus sucessores sintéticos.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r>
              <a:rPr b="0" lang="pt-BR" sz="2800" spc="-1" strike="noStrike">
                <a:solidFill>
                  <a:srgbClr val="ffffff"/>
                </a:solidFill>
                <a:latin typeface="Arial"/>
                <a:ea typeface="Arial"/>
              </a:rPr>
              <a:t>	</a:t>
            </a:r>
            <a:r>
              <a:rPr b="0" lang="pt-BR" sz="2800" spc="-1" strike="noStrike">
                <a:solidFill>
                  <a:srgbClr val="ffffff"/>
                </a:solidFill>
                <a:latin typeface="Arial"/>
                <a:ea typeface="Arial"/>
              </a:rPr>
              <a:t>Enquadram-se neste grupo as substâncias que provocam sonolência e bloqueaiam os impulsos de dor, fome e sede, bem como o impulso sexual.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Entre os narcóticos, destacam-se o </a:t>
            </a:r>
            <a:r>
              <a:rPr b="1" lang="pt-BR" sz="2800" spc="-1" strike="noStrike">
                <a:solidFill>
                  <a:srgbClr val="00ff00"/>
                </a:solidFill>
                <a:latin typeface="Arial"/>
                <a:ea typeface="Arial"/>
              </a:rPr>
              <a:t>ópio</a:t>
            </a:r>
            <a:r>
              <a:rPr b="0" lang="pt-BR" sz="2800" spc="-1" strike="noStrike">
                <a:solidFill>
                  <a:srgbClr val="ffffff"/>
                </a:solidFill>
                <a:latin typeface="Arial"/>
                <a:ea typeface="Arial"/>
              </a:rPr>
              <a:t>, um suco espesso retirado da papoula (uma planta cultivada na Ásia), e seus derivados, como a </a:t>
            </a:r>
            <a:r>
              <a:rPr b="1" lang="pt-BR" sz="2800" spc="-1" strike="noStrike">
                <a:solidFill>
                  <a:srgbClr val="ffffff"/>
                </a:solidFill>
                <a:latin typeface="Arial"/>
                <a:ea typeface="Arial"/>
              </a:rPr>
              <a:t>morfina</a:t>
            </a:r>
            <a:r>
              <a:rPr b="0" lang="pt-BR" sz="2800" spc="-1" strike="noStrike">
                <a:solidFill>
                  <a:srgbClr val="ffffff"/>
                </a:solidFill>
                <a:latin typeface="Arial"/>
                <a:ea typeface="Arial"/>
              </a:rPr>
              <a:t>, a </a:t>
            </a:r>
            <a:r>
              <a:rPr b="1" lang="pt-BR" sz="2800" spc="-1" strike="noStrike">
                <a:solidFill>
                  <a:srgbClr val="00ff00"/>
                </a:solidFill>
                <a:latin typeface="Arial"/>
                <a:ea typeface="Arial"/>
              </a:rPr>
              <a:t>codeína</a:t>
            </a:r>
            <a:r>
              <a:rPr b="1" lang="pt-BR" sz="2800" spc="-1" strike="noStrike">
                <a:solidFill>
                  <a:srgbClr val="ffffff"/>
                </a:solidFill>
                <a:latin typeface="Arial"/>
                <a:ea typeface="Arial"/>
              </a:rPr>
              <a:t>, </a:t>
            </a:r>
            <a:r>
              <a:rPr b="0" lang="pt-BR" sz="2800" spc="-1" strike="noStrike">
                <a:solidFill>
                  <a:srgbClr val="ffffff"/>
                </a:solidFill>
                <a:latin typeface="Arial"/>
                <a:ea typeface="Arial"/>
              </a:rPr>
              <a:t>e a </a:t>
            </a:r>
            <a:r>
              <a:rPr b="1" lang="pt-BR" sz="2800" spc="-1" strike="noStrike">
                <a:solidFill>
                  <a:srgbClr val="00ff00"/>
                </a:solidFill>
                <a:latin typeface="Arial"/>
                <a:ea typeface="Arial"/>
              </a:rPr>
              <a:t>heroína</a:t>
            </a:r>
            <a:r>
              <a:rPr b="1" lang="pt-BR" sz="2800" spc="-1" strike="noStrike">
                <a:solidFill>
                  <a:srgbClr val="ffffff"/>
                </a:solidFill>
                <a:latin typeface="Arial"/>
                <a:ea typeface="Arial"/>
              </a:rPr>
              <a:t>, </a:t>
            </a:r>
            <a:r>
              <a:rPr b="0" lang="pt-BR" sz="2800" spc="-1" strike="noStrike">
                <a:solidFill>
                  <a:srgbClr val="ffffff"/>
                </a:solidFill>
                <a:latin typeface="Arial"/>
                <a:ea typeface="Arial"/>
              </a:rPr>
              <a:t>chamados coletivamente opiáceos. Existem drogas sintéticas com ação semelhante à dos opiáceos, chamadas opióides: meperidina, propoxifeno, metadona, zipero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Na medicina são os agentes mais eficazes, até agora conhecidos, para o alívio da dor intensa. São empregados, também, para suprimir a tosse e controlar a diarréia. Com a devida orientação médica, os narcóticos são administrados por via oral ou por via intramuscular.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Como drogas de abuso, no entanto, podem ser cheirados, fumados ou auto-administrados por vias mais diretas através de injeções sub-cutâneas (“bolha dérmica”) e endovenosas (“pico”).</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 alívio do sofrimento, quer de origem física ou psicológica, pode resultar num estado de euforia de curta duração. Os efeitos iniciais, no entanto, são, na maioria das vezes, desagradáveis.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s narcóticos tendem a induzir a contração das pupilas e redução da visão, juntamente com a sonolência, apatia, diminuição da atividade física e prisão de ventre. Uma dose mais elevada pode induzir o sono, porém existe a grande possibilidade de náusea, vômitos e depressão respiratóri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ea typeface="Arial"/>
              </a:rPr>
              <a:t>Os narcóticos sendo usados através de injeções dentro das veias, ou em doses maiores por via oral podem causar grande depressão respiratória e cardíaca.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ea typeface="Arial"/>
              </a:rPr>
              <a:t>A pessoa perde a consciência, fica de cor meio azulada porque a respiração fica muito fraca e a pressão arterial cai a ponto de o  sangue não circular direito: é o estado de </a:t>
            </a:r>
            <a:r>
              <a:rPr b="1" lang="pt-BR" sz="2800" spc="-1" strike="noStrike">
                <a:solidFill>
                  <a:srgbClr val="ffff00"/>
                </a:solidFill>
                <a:latin typeface="Arial"/>
                <a:ea typeface="Arial"/>
              </a:rPr>
              <a:t>coma</a:t>
            </a:r>
            <a:r>
              <a:rPr b="0" lang="pt-BR" sz="2800" spc="-1" strike="noStrike">
                <a:solidFill>
                  <a:srgbClr val="ffff00"/>
                </a:solidFill>
                <a:latin typeface="Arial"/>
                <a:ea typeface="Arial"/>
              </a:rPr>
              <a:t>, que se não for atendido pode levar à morte. Além disso, como muitas vezes o uso é feito por injeção, com frequência os dependentes acabam também por pegar infecções como hepatite e AI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3T15:31:15Z</dcterms:created>
  <dc:creator>Carlos &amp; Regina</dc:creator>
  <dc:description/>
  <dc:language>en-US</dc:language>
  <cp:lastModifiedBy>LEO</cp:lastModifiedBy>
  <dcterms:modified xsi:type="dcterms:W3CDTF">2000-09-07T12:45:40Z</dcterms:modified>
  <cp:revision>8</cp:revision>
  <dc:subject/>
  <dc:title>Drogas depressoras do SNC</dc:title>
</cp:coreProperties>
</file>